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2.gif" ContentType="image/gi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CD839-AF73-4D6D-9911-EE8A783DF6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DF10F-E425-4A07-AE16-47CD4415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CC8625-DB98-471A-9699-E4986937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F686D9-06A1-4FA5-9259-C6D14815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6AE06A-8C78-4ED6-B450-9A947ED4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EEA3EA-F150-40E8-ADEC-3CF15EDE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3066FA-E80A-41FD-8C54-9F6F028E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F04DC0-DE41-41A3-9876-4C5BC9E2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C2A1A1-A17E-48BE-A2B9-A94B5975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AE5471-3D75-4A4D-8E75-3A9D31D7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DA5284-8160-4675-A342-5BDCFC10A7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CCE2C-FA74-4E5E-BF74-75FC0EAB7A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53E02-F6D1-42C1-B91E-02171E6B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12FF4-2291-4F94-9FAD-3A43B0E4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ABEB7-4A34-45C0-B8E1-C2DF3CA0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FE463-2C2A-4206-8F77-62597D95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5D3F2-0AB9-4379-B50C-70008CD7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6FBD4-755E-4550-B471-B3A3227E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97870-0315-4577-B93F-DFC380D8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5961B-34A2-48EB-B9BB-1952FD58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707F0-E11C-4BE7-93AE-1FD7009C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51EBD-F51C-410E-83CA-FB850EB5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89986-1F56-4219-AE10-29313FD7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D5A82-6A78-4B23-A349-9A8B42A06F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3377E-0220-4FB4-B4EC-8E7C873856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867D7A-DDE9-4919-AC31-AF9BB8C268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06A8CC-ACC6-4D75-BA6D-66965062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3397C6-0A6B-41E6-96C8-374382A1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2DE20B-92E2-48A0-9993-0EAE68AE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2509C4-EC85-49B5-B2F3-2D64DC5B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78B0CE-F14E-4B0C-AB38-8F048F81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394B08-64F2-450F-BFAB-2FD50C23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BBEAC5-7DB9-400B-A1CE-EF40B76B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70AE2C-8136-48A0-970E-18FB9D3E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E7291-813D-4F24-8A5E-398AF80D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FD74D1-E011-4C57-A605-CE7397B4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44FDDC-0103-4014-AF32-2FDE233A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665CCA-29BB-490F-9709-2A8768AA3E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BDB4DF-A91A-47D8-BE08-62E95459BD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BA09B-1054-4B89-BC0B-9A20D007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0676D-5CEF-4A6C-B063-3859AF46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9E05B-7660-4C69-9122-F85E3126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1D859A-5EC5-4DC5-953D-77BDB073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315B9F-534B-4C63-B0C3-EDBFEA27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817D7-E363-4CB7-8AA3-07F4F76E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48654-F3A2-4306-A1C0-2CCE1E1D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D0006-F808-4981-9CD6-6214618F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83ADD5-E27E-41D4-BA74-0E208690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FBBEC6-697A-4B0F-B829-6F45F7F4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3AEF22-C871-4EF0-850B-7B45292E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58378-8744-4884-9C3D-7431A0AB16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30E62-2929-4813-93CD-0FD32C1F03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57DAF-52D7-4526-9C7C-C83CF379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36320-8A13-4A30-98B2-DBCFBE0F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23104-A49A-4FD7-9D2B-EDF3CF02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3F35E-73EF-49E9-97CD-81774ADC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69049-807D-4D1D-9E94-A5782157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7CC8A-58B0-4CCB-AC0E-7D60C3D3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21383-254D-4C52-B371-07179642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AC525-A75B-4F8B-952E-1CACE93D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F145D-E6A8-4446-A9A4-ED64EDE8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92517-0D4E-43D3-9BF3-DA8D4EDF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7C39C-2455-4C14-AFD8-762F21BC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6784B-B134-4950-9D3E-111538201B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BE87B-925B-461A-B933-5BAF318E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8F683-4AFD-443D-A6D7-45394185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0BF07-A8A8-4CB8-98E6-DD8F068E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55633-429E-49FC-95B6-BDD4CB8C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B3848-ACE4-4882-9035-3030FFC3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D1E87-FD8A-47F3-BAA2-64596686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BD2D9-51BF-4087-AFBD-DF91EBC1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EF453-AF1F-41D4-B383-ADC16B28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B3C24-AEFA-411C-8FFC-E9ABF22D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EBFE3-4BB0-4CDE-972C-BCD302AE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F019D-EB03-446B-A1A7-AE5B21EE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D1438-4CFB-4749-9A40-BB5364B2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9BE45-D432-4797-84C6-35B8BCB0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FC53C-7CE2-45E7-8E7D-35400A48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CACF3-6848-4A3E-8050-620B03E0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7E6F0-71D8-4A3C-84D2-C861CA67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D2268-3C5F-40DF-A5E2-255BEEF1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15385-9FA0-466C-AE5A-5E944BB0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56A5A-FAEA-47E0-90D2-ABE254BF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68ADB-30C4-4872-859B-490D3D87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A350F-E450-48CA-9397-94CE7232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EA28E-64C8-4A28-A5B7-48C4F195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9CBE1-BEFB-4F00-9183-108F79C5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11196-2869-4C75-A4D9-86CA8813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F49D1-CF3C-4C95-944B-BF734D97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61ABE-F907-4545-9F26-BAA5A76C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19FA9-C134-48EF-B48D-D9E643FD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A8CAA-CD9B-4059-BFE9-4D4A23A8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82101-A710-4825-BA61-0C148621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7224A-A403-49BE-B34B-252124E0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35F86-4952-48B3-B1AC-49ED7201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10CDC-0BBC-4EA4-80A0-6C3FEDC4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30D3F-EB1E-45B3-8B35-C7B795C2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361F7-92E3-43E8-8088-8E866D0B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5345D-8AC9-421D-AE04-6E006259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51C55-DA79-4D6F-AB4B-DD101A69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529D2-F600-4612-A69E-BABA6E4D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C82A4-D41F-4242-B15F-6C24ECEC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A8FAC-CB11-4AE4-BBD6-626B4961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41A99-47B6-4FBA-B844-971902B9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D45E4B-6F8E-4617-BB95-0B0759D6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494A31-625F-4508-9733-F6DCB5B6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5092C-EB8F-491A-97B4-BBCDC569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4B6D15-B0F6-4F3A-B628-BA84D6C6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1C183-DF11-4B97-BAAD-5811A49D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88DFB2-6CB1-4938-8AE2-541106B0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9534B-14C5-4414-A127-89A22E8E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1B759-35FD-4016-9AAE-5CE462DB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A5609-5C04-45A8-8AE2-6B8090BF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7C5BB-32A3-48F4-9BFA-F5E82ABD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BD7825-89F8-45FF-9CDF-2CC647D3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25AE9-EA61-493D-BDF8-F9EAC4B9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6C54DB-517B-4BBE-B4EE-AC5BCAE4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B145A-2D03-4762-8163-6A57E0D7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89354D-133F-474C-9EA5-FB94E974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6E3C1F-E27A-4D72-A2AC-449FFA51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708842-1708-49D5-8421-A1350BB7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E50110-11CA-4DA5-BCDF-50922253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652AAC-A092-4A74-913C-54AF7F66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620C3-1F98-4734-8F65-AF65EA76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3A2076-1F68-4CF7-A1D5-D2494703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D912AC-2835-4756-90CB-9AA260B9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10C2CB-8433-4BDC-9877-69D5A453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6A5CC5-FC33-4CE3-9A05-D67FFAE7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422FB-C7A6-4B48-99DE-33408EFC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F20037-7AE9-447C-A40B-E13E3369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AEAED9-5221-4223-9A44-9D894FE0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EB5EB2-D7CD-4B3E-B595-84B3368B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806CD5-D7C8-45DA-86AB-FCC281C5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4B80D1-36B0-4FE5-9297-E470CAA9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668C2-D757-4C6B-A223-A92EABD8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BC15EA-05D6-4C4D-8B57-E4E9E4DD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FC4626-0EDC-4BC9-88D4-530143D5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C1E094-3060-43C8-857D-1F0932C9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C0F22C-D4CA-4F42-B3FB-A4554A43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A9CCB9-7B2E-4807-B63D-88C22F87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6A7083-AE5B-4A44-83FB-6C1219B8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7AFDAF-4B85-4B00-AB14-E2374255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6584C9-0120-4E86-8391-A4A78B08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2DB0B0-61A9-4C15-88E7-7EF42699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C68840-4558-4F43-A396-BAC26D3F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48F17-DB90-41C4-9A1A-EB35A69F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A4B3A3-0511-4586-8FB8-3787CDCA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819C80-DC78-4205-AEB8-0A2A2434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8A9445-46F7-420C-A98A-502B2B80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C42EB-9EDE-46D6-9ED7-3D2BF7C1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5BFA18-8FD6-4A2A-B44E-90D1F5BB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9A8F3F-122B-4485-83EE-524C5DC7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C02B02-FCE9-48E3-8C7D-D19F39BA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065459-6D58-439B-91F6-6E1BE231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6C9207-0F10-4704-8E0C-E28E3518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B5F629-95C1-4912-8F24-CF65960B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740EA-201C-4DB0-886F-7CBEE921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7AC5BC-AC8A-4E51-9BBE-88383A69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B87CE8-1A94-488C-B3D2-B65AE5D9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01BD58-007F-45EA-8989-74E313A3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C2CBE2-0140-46DF-8674-20179EE9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F1F130-284D-40AB-9755-B046151A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43FF28-69D3-4007-A0D3-891D2B48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D0D3B8-2474-4117-9520-2305EEA0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59818A-2468-40AB-B7F3-369A9ED9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C933CE-826E-4323-9C3A-5CC8A7CF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96AD50-D1F1-4724-9083-060998AE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862BBC-1653-41BF-BAB5-8EC7A1DAB3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705FE3-DF2C-46DF-BBEF-594385A0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7D8F30-02D5-401A-9894-E05D4465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0BAAAE-A286-43FF-B392-EA817E5D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D27CCA-06B1-44A8-B98A-411E957B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C8C6EA-2573-44EB-A357-AEBDD4BA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766461-815B-4A18-B9EB-C07D8407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0E0AC8-AE0D-4168-AA86-A9C903E6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82BE53-8C0B-4AFB-83F7-93B204FC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15309B-3FB6-45E3-A108-B7B52142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DC0BCF-3EC8-491C-86BD-61A31B5F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3AFEB5-64DC-4A78-B7D2-1C221D47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BC0D0F-333A-425C-8ADD-A656F41C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2AB4AA-74BA-48BB-9363-3E260B67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BC93B2-26E9-49A9-9443-726B7EC5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06D2A1-36BC-4241-85A9-5D7BFBF0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9F5854-1414-41B1-9EBC-58B06523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1A6913-A33E-4AFF-A58D-3405D68B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044A1F-2C53-462E-BDB4-5E921F96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27B3D0-F4D1-4F21-A27D-8978F233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EDD6D4-9E86-4409-93F4-EE4DBDD3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132139-BBD2-40D2-9686-097A3FEF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9ACAAE-92E1-4369-9BA8-51A8B2F4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720ED0-25EF-46DE-84A1-D41E4422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A9CF06-5E70-40A8-B9ED-9C5C7CCD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F7BE1A-B20C-48DF-B5C4-E6AE827E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0AA70A-B723-4E4D-9548-439FBB4B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8B060A-798C-47EC-9D2C-61E7496D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FD5598-95A6-4ECF-9F3D-8073A31E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67F4BB-2C8B-4F84-BE14-4CACAA30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F793CC-9619-47C4-88BC-4507EA9A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60F7EB-BF10-4099-AD2B-004C91FF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5664CD-E259-43B0-BF17-F893C4C1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D68828-950D-4C77-9F9C-9B573D6C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F410C9-ED03-4F7C-AABC-157DD05D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21911A-4CD5-4321-B7A3-E9CB67C2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6DEE0D-8516-4E01-8D35-CDA31FAB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E2E3EC-CC4C-4AB7-93BD-8D4C1755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5BCF26-E1BF-42F4-B598-37DADA19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4C018B-DF76-46A7-9DAC-32C1C426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00F9DD-E34B-4E93-9204-D80C9DB2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708AB9-D3D8-43A5-ACF0-4CD864D9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1C76A8-00B7-48FA-984A-E0DF2E1E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DB2434-3900-4D01-88E5-5961C8C0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E6CEB-AF9F-431D-85DD-8384D053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F0A2B4-7D78-4CB2-A0DD-2084676A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7A038C-FFA8-4BCA-A89F-FE26034F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DC1B56-DC86-4D3B-98BB-4274ECB1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991324-F6B6-4EB8-9E1E-AAF5210A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752F86-B786-461B-A265-27A9236B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DEB01F-9C28-453B-B8A0-76CA2704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3D40EC-4A6F-4517-967C-805BEBF6C7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C8494-6A55-4498-9F53-04B6D253EF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9D3DB-AD13-487F-8C6D-2B0CBAAC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E6D2B-012D-4823-A73E-CB835620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86E98-C78C-40A2-8327-6AF7D0BB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F063B-9156-41F4-9DC2-39A6E583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5CA76-6D68-475F-B0B9-C7DF309F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39ABA-52D6-4660-BB66-8B30B52E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B2DF0-4F94-44F6-BFF6-943B914A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3CE4C-839A-46BA-AC1E-31ECD47F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D1672-DDA6-44A1-9E4D-92FBBB3B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B4D0D-5D89-4EA4-A3A9-DF282D98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68D5E-1085-4CD2-9A0F-4A124DAC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E646A-6700-4796-8F7C-80434CEECD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A0E40A-3F7B-4922-801D-A63C054575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21AB0-02F3-4C92-B0B9-223B4F62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CD1F03-37B5-4F12-97B0-37310A2B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FDD18F-4853-4F3B-BB52-1B43FA1F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BDA277-567F-4347-88C4-F109D9E7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C231C8-3DCA-42A5-B7EC-36EB6D25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8F161-F2B9-40B5-BED4-FBE73416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19A922-44FF-422E-B9EC-BCC8C1F6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D59CF9-EBAB-4445-AF08-2DC8FC44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9AF3E1-009D-4D34-9F2F-565A7B43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B3D679-1C33-4C90-8489-A95CFE59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FEE5B4-D6B0-4B95-B172-3D069915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89041-79E2-40C6-9524-0B3A2132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B430C2-2B6D-4749-A078-13BA9006EB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3A2C77-E091-479C-A626-C3210EEE7A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45F850-6AB7-42F8-9A49-68D69C33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01095C-8C61-4961-9530-1746CCB4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E8BF79-5843-4055-B8D6-AB586D01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339E91-7FBE-4FA1-85F2-F1A7BE70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A1BD86-89DC-40C7-B556-511C313D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759C08-F793-42FD-A301-F8351D45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1241F9-43C9-42DD-895A-3A51BE8B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860276-1F73-4F2A-8D95-D76A85C2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DF34F-F4E5-4CEF-861F-74B8301A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F23F2A-B1B9-475B-B5A5-5CAA1B61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F914BC-99B7-4CFF-BEE1-96891B66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2C04C8-6167-4CED-8AF4-75E40F7282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72649-3007-43BD-A65B-DB9E727AAD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BC217-2B7C-49F3-B234-758D61FA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5661B-9D33-4FF7-A5A9-813BDA89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D0012-C5BC-4627-97BD-0C217BE9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26226-52C1-4118-BC27-6EE26841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7B857-CA1F-4230-AB84-19D36897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6E3C1-004C-416B-A7D3-C15C91B3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15934-A6F7-446F-A8AF-C7D5DEBD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DB4BB-69CC-4E8D-8687-AFE532C6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FA963-E9D5-40FD-A04C-9A19CB30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91DB1-82F4-406D-A32F-2C20493A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2CCA0-8F95-466D-A259-D5570F69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67388-172F-451B-B69A-681A52B600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165CBC-1A71-4D67-B2AE-A72724664A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0126E2-B020-48B3-9294-14C825F1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F6FAE-703F-439C-8ACE-2A47C7DD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A81950-0966-4452-BF76-39E6D2ED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3F3E0E-4CDD-4853-B512-EF7904BD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3736F-BDF3-4555-B608-5E282A27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B4B55B-A5C2-4BA0-91F0-1810DBFD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72F33-D413-4602-8204-0F5DD56A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8A897-922A-4BE7-8591-DD7C2B85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F31B4B-25E9-4037-BFCD-F40F15BA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ACBD5C-1486-42B7-B511-7872DAD4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B59177-B9FA-4AC6-AB01-601C80A5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64003-344A-427E-AC5A-53EA588B14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F2D5A4-9333-4E23-86C7-7D57EB5FA4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7BE3EF-1F61-496D-B098-FCBECDCE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B49F06-ED33-4D6F-A927-D69DCAB5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DCA9-2469-4FF1-9555-9C861E5DD52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8666-3773-467B-990C-80791071113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5B72-3A95-422A-841A-D264E5230E7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76A8-FFE9-4D9D-9F2A-E8AAFBD41DC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4267-A702-4BB3-A6A0-469B43D8827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600D-902F-4134-8F2C-0D66A4290AA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60D5-1481-44C2-B1C1-7465F589017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6A3E-535F-4043-8FCC-C01E39DE202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139A-B727-41C6-A2A4-DEFBF7876CB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E7EF-F001-4110-8857-D311F9D2EA5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AB56-2B1E-4299-93FC-743CC8DAEE8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91D8-A6B7-4A44-A633-0BAE15B5C4D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5193-A9E7-4EFE-ABC4-0656E3FB28F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3DD9-1244-439E-A186-0DF524272E5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29E6-A50C-45F7-95FF-11487899F2F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AE67-7384-4A23-9EC9-3FBEBA5FB71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AA51-A7A0-40D1-A5E4-D1A586A4E50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8E66-6FB1-4F5F-92F8-EC8197ECF44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AAEA-068A-4785-95D8-2CFA8DD8CA5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E88C-8C7A-4206-8B83-E44E0CF1E87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EE9C-DE36-4432-9AC6-C1AE9F69EF6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C80C-D518-4F7D-A4BD-474ADC94ABF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2D98-8605-432F-8FB2-74D68F2AD36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3BEE-1AB3-4C64-99D4-8D8DFD0B443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114720" y="2703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68280" y="26640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   统    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3352680" cy="360"/>
            <a:chOff x="2284560" y="2448000"/>
            <a:chExt cx="33526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33526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3352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459080" y="174456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复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3"/>
          <p:cNvSpPr/>
          <p:nvPr/>
        </p:nvSpPr>
        <p:spPr>
          <a:xfrm>
            <a:off x="503280" y="71280"/>
            <a:ext cx="2990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复习回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3"/>
          <p:cNvSpPr/>
          <p:nvPr/>
        </p:nvSpPr>
        <p:spPr>
          <a:xfrm>
            <a:off x="2121480" y="611280"/>
            <a:ext cx="4940640" cy="36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我们一般怎样画条形统计图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根据图纸的大小，画出两条相互垂直的射线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在水平射线上，适当分配条形的位置，确定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    </a:t>
            </a: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条的宽度和间隔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在与水平射线垂直的射线上根据数据大小的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    </a:t>
            </a: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体情况，确定一个长度单位表示的数量的多少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根据数据的大小画出长短不同的直条，并标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    </a:t>
            </a: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数量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 Box 4"/>
          <p:cNvSpPr/>
          <p:nvPr/>
        </p:nvSpPr>
        <p:spPr>
          <a:xfrm>
            <a:off x="3422160" y="755640"/>
            <a:ext cx="1764720" cy="24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画条形统计图时，我们要注意什么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同一条线上所画的间隔必须保持一致，直条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         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宽窄必须相同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一个长度单位表示数量的多少要根据具体情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    </a:t>
            </a:r>
            <a:r>
              <a:rPr b="1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而定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15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6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7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3" name="TextBox 3"/>
          <p:cNvSpPr/>
          <p:nvPr/>
        </p:nvSpPr>
        <p:spPr>
          <a:xfrm>
            <a:off x="515880" y="98280"/>
            <a:ext cx="2990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实践应用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7"/>
          <p:cNvSpPr/>
          <p:nvPr/>
        </p:nvSpPr>
        <p:spPr>
          <a:xfrm>
            <a:off x="4240080" y="958680"/>
            <a:ext cx="480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育民小学各年级男、女生戴近视镜的同学人数如下表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Picture 8" descr="125"/>
          <p:cNvPicPr/>
          <p:nvPr/>
        </p:nvPicPr>
        <p:blipFill>
          <a:blip r:embed="rId8"/>
          <a:stretch/>
        </p:blipFill>
        <p:spPr>
          <a:xfrm>
            <a:off x="398520" y="1557360"/>
            <a:ext cx="791352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组合 40961"/>
          <p:cNvGrpSpPr/>
          <p:nvPr/>
        </p:nvGrpSpPr>
        <p:grpSpPr>
          <a:xfrm>
            <a:off x="4716360" y="1301760"/>
            <a:ext cx="4391640" cy="3185280"/>
            <a:chOff x="4716360" y="1301760"/>
            <a:chExt cx="4391640" cy="3185280"/>
          </a:xfrm>
        </p:grpSpPr>
        <p:grpSp>
          <p:nvGrpSpPr>
            <p:cNvPr id="1027" name="Group 27"/>
            <p:cNvGrpSpPr/>
            <p:nvPr/>
          </p:nvGrpSpPr>
          <p:grpSpPr>
            <a:xfrm>
              <a:off x="5088960" y="1301760"/>
              <a:ext cx="4019040" cy="3185280"/>
              <a:chOff x="5088960" y="1301760"/>
              <a:chExt cx="4019040" cy="3185280"/>
            </a:xfrm>
          </p:grpSpPr>
          <p:pic>
            <p:nvPicPr>
              <p:cNvPr id="1028" name="Picture 10" descr="126"/>
              <p:cNvPicPr/>
              <p:nvPr/>
            </p:nvPicPr>
            <p:blipFill>
              <a:blip r:embed="rId1"/>
              <a:stretch/>
            </p:blipFill>
            <p:spPr>
              <a:xfrm>
                <a:off x="5333760" y="1652040"/>
                <a:ext cx="3625560" cy="2518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9" name="Group 29"/>
              <p:cNvGrpSpPr/>
              <p:nvPr/>
            </p:nvGrpSpPr>
            <p:grpSpPr>
              <a:xfrm>
                <a:off x="5592960" y="4130640"/>
                <a:ext cx="3515040" cy="356400"/>
                <a:chOff x="5592960" y="4130640"/>
                <a:chExt cx="3515040" cy="356400"/>
              </a:xfrm>
            </p:grpSpPr>
            <p:sp>
              <p:nvSpPr>
                <p:cNvPr id="1030" name="Text Box 14"/>
                <p:cNvSpPr/>
                <p:nvPr/>
              </p:nvSpPr>
              <p:spPr>
                <a:xfrm>
                  <a:off x="5592960" y="4149720"/>
                  <a:ext cx="312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一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Text Box 15"/>
                <p:cNvSpPr/>
                <p:nvPr/>
              </p:nvSpPr>
              <p:spPr>
                <a:xfrm>
                  <a:off x="6081840" y="4130640"/>
                  <a:ext cx="312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二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Text Box 16"/>
                <p:cNvSpPr/>
                <p:nvPr/>
              </p:nvSpPr>
              <p:spPr>
                <a:xfrm>
                  <a:off x="6586560" y="4130640"/>
                  <a:ext cx="312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三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Text Box 17"/>
                <p:cNvSpPr/>
                <p:nvPr/>
              </p:nvSpPr>
              <p:spPr>
                <a:xfrm>
                  <a:off x="7080480" y="4130640"/>
                  <a:ext cx="312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四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Text Box 18"/>
                <p:cNvSpPr/>
                <p:nvPr/>
              </p:nvSpPr>
              <p:spPr>
                <a:xfrm>
                  <a:off x="7568280" y="4130640"/>
                  <a:ext cx="312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五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Text Box 19"/>
                <p:cNvSpPr/>
                <p:nvPr/>
              </p:nvSpPr>
              <p:spPr>
                <a:xfrm>
                  <a:off x="8036640" y="4130640"/>
                  <a:ext cx="312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六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Text Box 20"/>
                <p:cNvSpPr/>
                <p:nvPr/>
              </p:nvSpPr>
              <p:spPr>
                <a:xfrm>
                  <a:off x="8434800" y="4130640"/>
                  <a:ext cx="673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年级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7" name="Group 30"/>
              <p:cNvGrpSpPr/>
              <p:nvPr/>
            </p:nvGrpSpPr>
            <p:grpSpPr>
              <a:xfrm>
                <a:off x="5088960" y="1301760"/>
                <a:ext cx="3231360" cy="2998440"/>
                <a:chOff x="5088960" y="1301760"/>
                <a:chExt cx="3231360" cy="2998440"/>
              </a:xfrm>
            </p:grpSpPr>
            <p:sp>
              <p:nvSpPr>
                <p:cNvPr id="1038" name="Text Box 12"/>
                <p:cNvSpPr/>
                <p:nvPr/>
              </p:nvSpPr>
              <p:spPr>
                <a:xfrm>
                  <a:off x="5109480" y="1301760"/>
                  <a:ext cx="936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人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Rectangle 13"/>
                <p:cNvSpPr/>
                <p:nvPr/>
              </p:nvSpPr>
              <p:spPr>
                <a:xfrm>
                  <a:off x="5617440" y="1595520"/>
                  <a:ext cx="2702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女生戴近视镜的人数统计图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Text Box 21"/>
                <p:cNvSpPr/>
                <p:nvPr/>
              </p:nvSpPr>
              <p:spPr>
                <a:xfrm>
                  <a:off x="5088960" y="3947040"/>
                  <a:ext cx="312840" cy="35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1" name="Text Box 22"/>
            <p:cNvSpPr/>
            <p:nvPr/>
          </p:nvSpPr>
          <p:spPr>
            <a:xfrm>
              <a:off x="4749120" y="363708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23"/>
            <p:cNvSpPr/>
            <p:nvPr/>
          </p:nvSpPr>
          <p:spPr>
            <a:xfrm>
              <a:off x="4716360" y="3343320"/>
              <a:ext cx="9345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 Box 24"/>
            <p:cNvSpPr/>
            <p:nvPr/>
          </p:nvSpPr>
          <p:spPr>
            <a:xfrm>
              <a:off x="4749120" y="303732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25"/>
            <p:cNvSpPr/>
            <p:nvPr/>
          </p:nvSpPr>
          <p:spPr>
            <a:xfrm>
              <a:off x="4743000" y="272412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26"/>
            <p:cNvSpPr/>
            <p:nvPr/>
          </p:nvSpPr>
          <p:spPr>
            <a:xfrm>
              <a:off x="4743000" y="242568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27"/>
            <p:cNvSpPr/>
            <p:nvPr/>
          </p:nvSpPr>
          <p:spPr>
            <a:xfrm>
              <a:off x="4739760" y="210492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Text Box 28"/>
            <p:cNvSpPr/>
            <p:nvPr/>
          </p:nvSpPr>
          <p:spPr>
            <a:xfrm>
              <a:off x="4743000" y="182232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Rectangle 9"/>
          <p:cNvSpPr/>
          <p:nvPr/>
        </p:nvSpPr>
        <p:spPr>
          <a:xfrm>
            <a:off x="3129840" y="733320"/>
            <a:ext cx="33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根据上表中的数据完成下面的条形图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组合 40987"/>
          <p:cNvGrpSpPr/>
          <p:nvPr/>
        </p:nvGrpSpPr>
        <p:grpSpPr>
          <a:xfrm>
            <a:off x="355680" y="1303200"/>
            <a:ext cx="4435200" cy="3184560"/>
            <a:chOff x="355680" y="1303200"/>
            <a:chExt cx="4435200" cy="3184560"/>
          </a:xfrm>
        </p:grpSpPr>
        <p:pic>
          <p:nvPicPr>
            <p:cNvPr id="1050" name="Picture 10" descr="126"/>
            <p:cNvPicPr/>
            <p:nvPr/>
          </p:nvPicPr>
          <p:blipFill>
            <a:blip r:embed="rId2"/>
            <a:stretch/>
          </p:blipFill>
          <p:spPr>
            <a:xfrm>
              <a:off x="1026000" y="1653480"/>
              <a:ext cx="3624480" cy="251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1" name="Group 29"/>
            <p:cNvGrpSpPr/>
            <p:nvPr/>
          </p:nvGrpSpPr>
          <p:grpSpPr>
            <a:xfrm>
              <a:off x="1285200" y="4131360"/>
              <a:ext cx="3505680" cy="356400"/>
              <a:chOff x="1285200" y="4131360"/>
              <a:chExt cx="3505680" cy="356400"/>
            </a:xfrm>
          </p:grpSpPr>
          <p:sp>
            <p:nvSpPr>
              <p:cNvPr id="1052" name="Text Box 14"/>
              <p:cNvSpPr/>
              <p:nvPr/>
            </p:nvSpPr>
            <p:spPr>
              <a:xfrm>
                <a:off x="1285200" y="4150440"/>
                <a:ext cx="312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一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 Box 15"/>
              <p:cNvSpPr/>
              <p:nvPr/>
            </p:nvSpPr>
            <p:spPr>
              <a:xfrm>
                <a:off x="1774080" y="4131360"/>
                <a:ext cx="312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二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 Box 16"/>
              <p:cNvSpPr/>
              <p:nvPr/>
            </p:nvSpPr>
            <p:spPr>
              <a:xfrm>
                <a:off x="2278800" y="4131360"/>
                <a:ext cx="312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三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 Box 17"/>
              <p:cNvSpPr/>
              <p:nvPr/>
            </p:nvSpPr>
            <p:spPr>
              <a:xfrm>
                <a:off x="2772720" y="4131360"/>
                <a:ext cx="312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四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 Box 18"/>
              <p:cNvSpPr/>
              <p:nvPr/>
            </p:nvSpPr>
            <p:spPr>
              <a:xfrm>
                <a:off x="3260520" y="4131360"/>
                <a:ext cx="31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 Box 19"/>
              <p:cNvSpPr/>
              <p:nvPr/>
            </p:nvSpPr>
            <p:spPr>
              <a:xfrm>
                <a:off x="3728880" y="4131360"/>
                <a:ext cx="31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六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 Box 20"/>
              <p:cNvSpPr/>
              <p:nvPr/>
            </p:nvSpPr>
            <p:spPr>
              <a:xfrm>
                <a:off x="4117680" y="4131360"/>
                <a:ext cx="67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年级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Text Box 12"/>
            <p:cNvSpPr/>
            <p:nvPr/>
          </p:nvSpPr>
          <p:spPr>
            <a:xfrm>
              <a:off x="801360" y="1303200"/>
              <a:ext cx="93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13"/>
            <p:cNvSpPr/>
            <p:nvPr/>
          </p:nvSpPr>
          <p:spPr>
            <a:xfrm>
              <a:off x="1309320" y="1596240"/>
              <a:ext cx="27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男生戴近视镜的人数统计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Text Box 21"/>
            <p:cNvSpPr/>
            <p:nvPr/>
          </p:nvSpPr>
          <p:spPr>
            <a:xfrm>
              <a:off x="780480" y="3947760"/>
              <a:ext cx="3128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Text Box 22"/>
            <p:cNvSpPr/>
            <p:nvPr/>
          </p:nvSpPr>
          <p:spPr>
            <a:xfrm>
              <a:off x="389880" y="365580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Text Box 23"/>
            <p:cNvSpPr/>
            <p:nvPr/>
          </p:nvSpPr>
          <p:spPr>
            <a:xfrm>
              <a:off x="355680" y="3362400"/>
              <a:ext cx="9345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Text Box 24"/>
            <p:cNvSpPr/>
            <p:nvPr/>
          </p:nvSpPr>
          <p:spPr>
            <a:xfrm>
              <a:off x="389880" y="305568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Text Box 25"/>
            <p:cNvSpPr/>
            <p:nvPr/>
          </p:nvSpPr>
          <p:spPr>
            <a:xfrm>
              <a:off x="383400" y="274320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Text Box 26"/>
            <p:cNvSpPr/>
            <p:nvPr/>
          </p:nvSpPr>
          <p:spPr>
            <a:xfrm>
              <a:off x="383400" y="244476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Text Box 27"/>
            <p:cNvSpPr/>
            <p:nvPr/>
          </p:nvSpPr>
          <p:spPr>
            <a:xfrm>
              <a:off x="380160" y="212400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28"/>
            <p:cNvSpPr/>
            <p:nvPr/>
          </p:nvSpPr>
          <p:spPr>
            <a:xfrm>
              <a:off x="383400" y="1841400"/>
              <a:ext cx="935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  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组合 41007"/>
          <p:cNvGrpSpPr/>
          <p:nvPr/>
        </p:nvGrpSpPr>
        <p:grpSpPr>
          <a:xfrm>
            <a:off x="1227240" y="1944720"/>
            <a:ext cx="2900160" cy="2195640"/>
            <a:chOff x="1227240" y="1944720"/>
            <a:chExt cx="2900160" cy="2195640"/>
          </a:xfrm>
        </p:grpSpPr>
        <p:grpSp>
          <p:nvGrpSpPr>
            <p:cNvPr id="1070" name="组合 41008"/>
            <p:cNvGrpSpPr/>
            <p:nvPr/>
          </p:nvGrpSpPr>
          <p:grpSpPr>
            <a:xfrm>
              <a:off x="1227240" y="2187360"/>
              <a:ext cx="2792880" cy="1953000"/>
              <a:chOff x="1227240" y="2187360"/>
              <a:chExt cx="2792880" cy="1953000"/>
            </a:xfrm>
          </p:grpSpPr>
          <p:grpSp>
            <p:nvGrpSpPr>
              <p:cNvPr id="1071" name="Group 48"/>
              <p:cNvGrpSpPr/>
              <p:nvPr/>
            </p:nvGrpSpPr>
            <p:grpSpPr>
              <a:xfrm>
                <a:off x="1344600" y="2187360"/>
                <a:ext cx="2675520" cy="1953000"/>
                <a:chOff x="1344600" y="2187360"/>
                <a:chExt cx="2675520" cy="1953000"/>
              </a:xfrm>
            </p:grpSpPr>
            <p:sp>
              <p:nvSpPr>
                <p:cNvPr id="1072" name="矩形 1"/>
                <p:cNvSpPr/>
                <p:nvPr/>
              </p:nvSpPr>
              <p:spPr>
                <a:xfrm>
                  <a:off x="1344600" y="3946680"/>
                  <a:ext cx="241200" cy="19368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矩形 2"/>
                <p:cNvSpPr/>
                <p:nvPr/>
              </p:nvSpPr>
              <p:spPr>
                <a:xfrm>
                  <a:off x="1832400" y="3822840"/>
                  <a:ext cx="241200" cy="31752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矩形 34"/>
                <p:cNvSpPr/>
                <p:nvPr/>
              </p:nvSpPr>
              <p:spPr>
                <a:xfrm>
                  <a:off x="2321280" y="3525480"/>
                  <a:ext cx="241200" cy="61488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矩形 35"/>
                <p:cNvSpPr/>
                <p:nvPr/>
              </p:nvSpPr>
              <p:spPr>
                <a:xfrm>
                  <a:off x="2810160" y="2976120"/>
                  <a:ext cx="241200" cy="116424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矩形 36"/>
                <p:cNvSpPr/>
                <p:nvPr/>
              </p:nvSpPr>
              <p:spPr>
                <a:xfrm>
                  <a:off x="3297600" y="2610720"/>
                  <a:ext cx="241200" cy="152928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矩形 37"/>
                <p:cNvSpPr/>
                <p:nvPr/>
              </p:nvSpPr>
              <p:spPr>
                <a:xfrm>
                  <a:off x="3778920" y="2187360"/>
                  <a:ext cx="241200" cy="195300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8" name="Rectangle 51"/>
              <p:cNvSpPr/>
              <p:nvPr/>
            </p:nvSpPr>
            <p:spPr>
              <a:xfrm>
                <a:off x="1227240" y="3692520"/>
                <a:ext cx="461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Cambria"/>
                    <a:ea typeface="黑体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51"/>
              <p:cNvSpPr/>
              <p:nvPr/>
            </p:nvSpPr>
            <p:spPr>
              <a:xfrm>
                <a:off x="1714680" y="3562200"/>
                <a:ext cx="46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Cambria"/>
                    <a:ea typeface="黑体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Rectangle 51"/>
              <p:cNvSpPr/>
              <p:nvPr/>
            </p:nvSpPr>
            <p:spPr>
              <a:xfrm>
                <a:off x="2201400" y="3267000"/>
                <a:ext cx="461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Cambria"/>
                    <a:ea typeface="黑体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Rectangle 51"/>
              <p:cNvSpPr/>
              <p:nvPr/>
            </p:nvSpPr>
            <p:spPr>
              <a:xfrm>
                <a:off x="2690280" y="2725920"/>
                <a:ext cx="461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Cambria"/>
                    <a:ea typeface="黑体"/>
                  </a:rPr>
                  <a:t>1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51"/>
              <p:cNvSpPr/>
              <p:nvPr/>
            </p:nvSpPr>
            <p:spPr>
              <a:xfrm>
                <a:off x="3177720" y="2342880"/>
                <a:ext cx="46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Cambria"/>
                    <a:ea typeface="黑体"/>
                  </a:rPr>
                  <a:t>2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3" name="Rectangle 51"/>
            <p:cNvSpPr/>
            <p:nvPr/>
          </p:nvSpPr>
          <p:spPr>
            <a:xfrm>
              <a:off x="3665160" y="1944720"/>
              <a:ext cx="46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Cambria"/>
                  <a:ea typeface="黑体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组合 41022"/>
          <p:cNvGrpSpPr/>
          <p:nvPr/>
        </p:nvGrpSpPr>
        <p:grpSpPr>
          <a:xfrm>
            <a:off x="5538960" y="2054160"/>
            <a:ext cx="2844720" cy="2087280"/>
            <a:chOff x="5538960" y="2054160"/>
            <a:chExt cx="2844720" cy="2087280"/>
          </a:xfrm>
        </p:grpSpPr>
        <p:sp>
          <p:nvSpPr>
            <p:cNvPr id="1085" name="Rectangle 51"/>
            <p:cNvSpPr/>
            <p:nvPr/>
          </p:nvSpPr>
          <p:spPr>
            <a:xfrm>
              <a:off x="5538960" y="37684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Cambria"/>
                  <a:ea typeface="黑体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51"/>
            <p:cNvSpPr/>
            <p:nvPr/>
          </p:nvSpPr>
          <p:spPr>
            <a:xfrm>
              <a:off x="6026400" y="3670200"/>
              <a:ext cx="40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Cambria"/>
                  <a:ea typeface="黑体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51"/>
            <p:cNvSpPr/>
            <p:nvPr/>
          </p:nvSpPr>
          <p:spPr>
            <a:xfrm>
              <a:off x="6513480" y="3208320"/>
              <a:ext cx="4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Cambria"/>
                  <a:ea typeface="黑体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51"/>
            <p:cNvSpPr/>
            <p:nvPr/>
          </p:nvSpPr>
          <p:spPr>
            <a:xfrm>
              <a:off x="7001280" y="2555640"/>
              <a:ext cx="40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Cambria"/>
                  <a:ea typeface="黑体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51"/>
            <p:cNvSpPr/>
            <p:nvPr/>
          </p:nvSpPr>
          <p:spPr>
            <a:xfrm>
              <a:off x="7486920" y="23684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Cambria"/>
                  <a:ea typeface="黑体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51"/>
            <p:cNvSpPr/>
            <p:nvPr/>
          </p:nvSpPr>
          <p:spPr>
            <a:xfrm>
              <a:off x="7974000" y="2054160"/>
              <a:ext cx="4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Cambria"/>
                  <a:ea typeface="黑体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Group 67"/>
            <p:cNvGrpSpPr/>
            <p:nvPr/>
          </p:nvGrpSpPr>
          <p:grpSpPr>
            <a:xfrm>
              <a:off x="5649120" y="2309760"/>
              <a:ext cx="2674440" cy="1831680"/>
              <a:chOff x="5649120" y="2309760"/>
              <a:chExt cx="2674440" cy="1831680"/>
            </a:xfrm>
          </p:grpSpPr>
          <p:sp>
            <p:nvSpPr>
              <p:cNvPr id="1092" name="矩形 38"/>
              <p:cNvSpPr/>
              <p:nvPr/>
            </p:nvSpPr>
            <p:spPr>
              <a:xfrm>
                <a:off x="5649120" y="4012560"/>
                <a:ext cx="241200" cy="128520"/>
              </a:xfrm>
              <a:prstGeom prst="rect">
                <a:avLst/>
              </a:prstGeom>
              <a:solidFill>
                <a:srgbClr val="f7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矩形 39"/>
              <p:cNvSpPr/>
              <p:nvPr/>
            </p:nvSpPr>
            <p:spPr>
              <a:xfrm>
                <a:off x="6136560" y="3912840"/>
                <a:ext cx="239040" cy="228240"/>
              </a:xfrm>
              <a:prstGeom prst="rect">
                <a:avLst/>
              </a:prstGeom>
              <a:solidFill>
                <a:srgbClr val="f7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矩形 40"/>
              <p:cNvSpPr/>
              <p:nvPr/>
            </p:nvSpPr>
            <p:spPr>
              <a:xfrm>
                <a:off x="6622200" y="3452760"/>
                <a:ext cx="241200" cy="688680"/>
              </a:xfrm>
              <a:prstGeom prst="rect">
                <a:avLst/>
              </a:prstGeom>
              <a:solidFill>
                <a:srgbClr val="f7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矩形 41"/>
              <p:cNvSpPr/>
              <p:nvPr/>
            </p:nvSpPr>
            <p:spPr>
              <a:xfrm>
                <a:off x="7108920" y="2798280"/>
                <a:ext cx="241200" cy="1342800"/>
              </a:xfrm>
              <a:prstGeom prst="rect">
                <a:avLst/>
              </a:prstGeom>
              <a:solidFill>
                <a:srgbClr val="f7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矩形 42"/>
              <p:cNvSpPr/>
              <p:nvPr/>
            </p:nvSpPr>
            <p:spPr>
              <a:xfrm>
                <a:off x="7594920" y="2612520"/>
                <a:ext cx="240840" cy="1528920"/>
              </a:xfrm>
              <a:prstGeom prst="rect">
                <a:avLst/>
              </a:prstGeom>
              <a:solidFill>
                <a:srgbClr val="f7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矩形 43"/>
              <p:cNvSpPr/>
              <p:nvPr/>
            </p:nvSpPr>
            <p:spPr>
              <a:xfrm>
                <a:off x="8082360" y="2309760"/>
                <a:ext cx="241200" cy="1831680"/>
              </a:xfrm>
              <a:prstGeom prst="rect">
                <a:avLst/>
              </a:prstGeom>
              <a:solidFill>
                <a:srgbClr val="f71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8" name="组合 41036"/>
          <p:cNvGrpSpPr/>
          <p:nvPr/>
        </p:nvGrpSpPr>
        <p:grpSpPr>
          <a:xfrm>
            <a:off x="572400" y="1841400"/>
            <a:ext cx="571320" cy="2180880"/>
            <a:chOff x="572400" y="1841400"/>
            <a:chExt cx="571320" cy="2180880"/>
          </a:xfrm>
        </p:grpSpPr>
        <p:sp>
          <p:nvSpPr>
            <p:cNvPr id="1099" name="文本框 41037"/>
            <p:cNvSpPr/>
            <p:nvPr/>
          </p:nvSpPr>
          <p:spPr>
            <a:xfrm>
              <a:off x="592560" y="184140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35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文本框 41038"/>
            <p:cNvSpPr/>
            <p:nvPr/>
          </p:nvSpPr>
          <p:spPr>
            <a:xfrm>
              <a:off x="592560" y="213192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30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文本框 41039"/>
            <p:cNvSpPr/>
            <p:nvPr/>
          </p:nvSpPr>
          <p:spPr>
            <a:xfrm>
              <a:off x="602280" y="245340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5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文本框 41040"/>
            <p:cNvSpPr/>
            <p:nvPr/>
          </p:nvSpPr>
          <p:spPr>
            <a:xfrm>
              <a:off x="603360" y="273528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0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文本框 41041"/>
            <p:cNvSpPr/>
            <p:nvPr/>
          </p:nvSpPr>
          <p:spPr>
            <a:xfrm>
              <a:off x="602280" y="304632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5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文本框 41042"/>
            <p:cNvSpPr/>
            <p:nvPr/>
          </p:nvSpPr>
          <p:spPr>
            <a:xfrm>
              <a:off x="572400" y="336816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0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文本框 41043"/>
            <p:cNvSpPr/>
            <p:nvPr/>
          </p:nvSpPr>
          <p:spPr>
            <a:xfrm>
              <a:off x="651960" y="3669120"/>
              <a:ext cx="4197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5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组合 41044"/>
          <p:cNvGrpSpPr/>
          <p:nvPr/>
        </p:nvGrpSpPr>
        <p:grpSpPr>
          <a:xfrm>
            <a:off x="4935600" y="1822320"/>
            <a:ext cx="571320" cy="2181240"/>
            <a:chOff x="4935600" y="1822320"/>
            <a:chExt cx="571320" cy="2181240"/>
          </a:xfrm>
        </p:grpSpPr>
        <p:sp>
          <p:nvSpPr>
            <p:cNvPr id="1107" name="文本框 41045"/>
            <p:cNvSpPr/>
            <p:nvPr/>
          </p:nvSpPr>
          <p:spPr>
            <a:xfrm>
              <a:off x="4955760" y="182232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35 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文本框 41046"/>
            <p:cNvSpPr/>
            <p:nvPr/>
          </p:nvSpPr>
          <p:spPr>
            <a:xfrm>
              <a:off x="4955760" y="211284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30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文本框 41047"/>
            <p:cNvSpPr/>
            <p:nvPr/>
          </p:nvSpPr>
          <p:spPr>
            <a:xfrm>
              <a:off x="4965480" y="243432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5 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文本框 41048"/>
            <p:cNvSpPr/>
            <p:nvPr/>
          </p:nvSpPr>
          <p:spPr>
            <a:xfrm>
              <a:off x="4966560" y="271620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0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文本框 41049"/>
            <p:cNvSpPr/>
            <p:nvPr/>
          </p:nvSpPr>
          <p:spPr>
            <a:xfrm>
              <a:off x="4965480" y="302724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5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文本框 41050"/>
            <p:cNvSpPr/>
            <p:nvPr/>
          </p:nvSpPr>
          <p:spPr>
            <a:xfrm>
              <a:off x="4935600" y="3349080"/>
              <a:ext cx="540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10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文本框 41051"/>
            <p:cNvSpPr/>
            <p:nvPr/>
          </p:nvSpPr>
          <p:spPr>
            <a:xfrm>
              <a:off x="5015520" y="3650400"/>
              <a:ext cx="4197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0000"/>
                  </a:solidFill>
                  <a:latin typeface="Arial"/>
                  <a:ea typeface="宋体"/>
                </a:rPr>
                <a:t>5</a:t>
              </a:r>
              <a:r>
                <a:rPr b="0" lang="zh-CN" sz="1700" spc="-1" strike="noStrike">
                  <a:solidFill>
                    <a:srgbClr val="cc0000"/>
                  </a:solidFill>
                  <a:latin typeface="Arial"/>
                  <a:ea typeface="宋体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文本框 1"/>
          <p:cNvSpPr/>
          <p:nvPr/>
        </p:nvSpPr>
        <p:spPr>
          <a:xfrm>
            <a:off x="1464840" y="446580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四年级戴近视镜的有多少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098080" y="4946760"/>
            <a:ext cx="282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+22=4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四年级戴近视镜的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Text Box 2"/>
          <p:cNvSpPr/>
          <p:nvPr/>
        </p:nvSpPr>
        <p:spPr>
          <a:xfrm>
            <a:off x="1838160" y="157320"/>
            <a:ext cx="489096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哪几个年级戴近视镜的人数比较多？哪几个年级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戴近视镜的男生比女生多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3"/>
          <p:cNvGrpSpPr/>
          <p:nvPr/>
        </p:nvGrpSpPr>
        <p:grpSpPr>
          <a:xfrm>
            <a:off x="654120" y="3068640"/>
            <a:ext cx="3196440" cy="1754280"/>
            <a:chOff x="654120" y="3068640"/>
            <a:chExt cx="3196440" cy="1754280"/>
          </a:xfrm>
        </p:grpSpPr>
        <p:pic>
          <p:nvPicPr>
            <p:cNvPr id="1118" name="Picture 4" descr="E:\2017秋上·黄倩\其他\人\海豚.jpg海豚"/>
            <p:cNvPicPr/>
            <p:nvPr/>
          </p:nvPicPr>
          <p:blipFill>
            <a:blip r:embed="rId1"/>
            <a:stretch/>
          </p:blipFill>
          <p:spPr>
            <a:xfrm>
              <a:off x="654120" y="3790440"/>
              <a:ext cx="849960" cy="103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9" name="Text Box 5"/>
            <p:cNvSpPr/>
            <p:nvPr/>
          </p:nvSpPr>
          <p:spPr>
            <a:xfrm>
              <a:off x="1910880" y="3149280"/>
              <a:ext cx="1514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你还能提出什么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数学问题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AutoShape 6"/>
            <p:cNvSpPr/>
            <p:nvPr/>
          </p:nvSpPr>
          <p:spPr>
            <a:xfrm>
              <a:off x="1403280" y="3068640"/>
              <a:ext cx="2447280" cy="936000"/>
            </a:xfrm>
            <a:prstGeom prst="wedgeRoundRectCallout">
              <a:avLst>
                <a:gd name="adj1" fmla="val -43750"/>
                <a:gd name="adj2" fmla="val 70000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Group 7"/>
          <p:cNvGrpSpPr/>
          <p:nvPr/>
        </p:nvGrpSpPr>
        <p:grpSpPr>
          <a:xfrm>
            <a:off x="4429080" y="2924280"/>
            <a:ext cx="4120920" cy="2052000"/>
            <a:chOff x="4429080" y="2924280"/>
            <a:chExt cx="4120920" cy="2052000"/>
          </a:xfrm>
        </p:grpSpPr>
        <p:pic>
          <p:nvPicPr>
            <p:cNvPr id="1122" name="Picture 8" descr="E:\2017秋上·黄倩\其他\人\蜜蜂.gif蜜蜂"/>
            <p:cNvPicPr/>
            <p:nvPr/>
          </p:nvPicPr>
          <p:blipFill>
            <a:blip r:embed="rId2"/>
            <a:stretch/>
          </p:blipFill>
          <p:spPr>
            <a:xfrm>
              <a:off x="7668720" y="4005720"/>
              <a:ext cx="881280" cy="97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3" name="Text Box 9"/>
            <p:cNvSpPr/>
            <p:nvPr/>
          </p:nvSpPr>
          <p:spPr>
            <a:xfrm>
              <a:off x="5068800" y="2955600"/>
              <a:ext cx="208584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在回答第二个问题时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对比看两个统计图，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觉方便吗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AutoShape 10"/>
            <p:cNvSpPr/>
            <p:nvPr/>
          </p:nvSpPr>
          <p:spPr>
            <a:xfrm>
              <a:off x="4429080" y="2924280"/>
              <a:ext cx="3384720" cy="1295640"/>
            </a:xfrm>
            <a:prstGeom prst="wedgeRoundRectCallout">
              <a:avLst>
                <a:gd name="adj1" fmla="val 42194"/>
                <a:gd name="adj2" fmla="val 62787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5" name="Text Box 4"/>
          <p:cNvSpPr/>
          <p:nvPr/>
        </p:nvSpPr>
        <p:spPr>
          <a:xfrm>
            <a:off x="2828520" y="1866960"/>
            <a:ext cx="45698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四、五、六年级戴近视镜的人数比较多。一、二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六年级戴近视镜的男生比女生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4"/>
          <p:cNvSpPr/>
          <p:nvPr/>
        </p:nvSpPr>
        <p:spPr>
          <a:xfrm>
            <a:off x="5541120" y="4425840"/>
            <a:ext cx="782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不方便，不如合并在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起更方便一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2616120" y="671400"/>
            <a:ext cx="157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我国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006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年自然保护区的数量如下表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8" name=""/>
          <p:cNvGraphicFramePr/>
          <p:nvPr/>
        </p:nvGraphicFramePr>
        <p:xfrm>
          <a:off x="684360" y="1260360"/>
          <a:ext cx="7199280" cy="838080"/>
        </p:xfrm>
        <a:graphic>
          <a:graphicData uri="http://schemas.openxmlformats.org/drawingml/2006/table">
            <a:tbl>
              <a:tblPr/>
              <a:tblGrid>
                <a:gridCol w="1440000"/>
                <a:gridCol w="1438200"/>
                <a:gridCol w="1439640"/>
                <a:gridCol w="1440000"/>
                <a:gridCol w="1441440"/>
              </a:tblGrid>
              <a:tr h="42372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  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国家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省  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市  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县  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量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9" name="Rectangle 7"/>
          <p:cNvSpPr/>
          <p:nvPr/>
        </p:nvSpPr>
        <p:spPr>
          <a:xfrm>
            <a:off x="3062880" y="2286000"/>
            <a:ext cx="33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请根据以上数据完成下面的条形图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组合 43033"/>
          <p:cNvGrpSpPr/>
          <p:nvPr/>
        </p:nvGrpSpPr>
        <p:grpSpPr>
          <a:xfrm>
            <a:off x="542880" y="3117960"/>
            <a:ext cx="3816360" cy="2711520"/>
            <a:chOff x="542880" y="3117960"/>
            <a:chExt cx="3816360" cy="2711520"/>
          </a:xfrm>
        </p:grpSpPr>
        <p:pic>
          <p:nvPicPr>
            <p:cNvPr id="1131" name="Picture 29" descr="106"/>
            <p:cNvPicPr/>
            <p:nvPr/>
          </p:nvPicPr>
          <p:blipFill>
            <a:blip r:embed="rId1"/>
            <a:stretch/>
          </p:blipFill>
          <p:spPr>
            <a:xfrm>
              <a:off x="542880" y="3117960"/>
              <a:ext cx="381636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2" name="Rectangle 30"/>
            <p:cNvSpPr/>
            <p:nvPr/>
          </p:nvSpPr>
          <p:spPr>
            <a:xfrm>
              <a:off x="1333440" y="5045400"/>
              <a:ext cx="360720" cy="593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32"/>
            <p:cNvSpPr/>
            <p:nvPr/>
          </p:nvSpPr>
          <p:spPr>
            <a:xfrm>
              <a:off x="1227240" y="4692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组合 43037"/>
          <p:cNvGrpSpPr/>
          <p:nvPr/>
        </p:nvGrpSpPr>
        <p:grpSpPr>
          <a:xfrm>
            <a:off x="1801800" y="3218040"/>
            <a:ext cx="2206800" cy="2428560"/>
            <a:chOff x="1801800" y="3218040"/>
            <a:chExt cx="2206800" cy="2428560"/>
          </a:xfrm>
        </p:grpSpPr>
        <p:sp>
          <p:nvSpPr>
            <p:cNvPr id="1135" name="矩形 2"/>
            <p:cNvSpPr/>
            <p:nvPr/>
          </p:nvSpPr>
          <p:spPr>
            <a:xfrm>
              <a:off x="2030400" y="3860640"/>
              <a:ext cx="361800" cy="17683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矩形 2"/>
            <p:cNvSpPr/>
            <p:nvPr/>
          </p:nvSpPr>
          <p:spPr>
            <a:xfrm>
              <a:off x="2722680" y="4646520"/>
              <a:ext cx="361800" cy="982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矩形 2"/>
            <p:cNvSpPr/>
            <p:nvPr/>
          </p:nvSpPr>
          <p:spPr>
            <a:xfrm>
              <a:off x="3398760" y="3574800"/>
              <a:ext cx="361800" cy="20718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Rectangle 51"/>
            <p:cNvSpPr/>
            <p:nvPr/>
          </p:nvSpPr>
          <p:spPr>
            <a:xfrm>
              <a:off x="1801800" y="356184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ambria"/>
                  <a:ea typeface="黑体"/>
                </a:rPr>
                <a:t>79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51"/>
            <p:cNvSpPr/>
            <p:nvPr/>
          </p:nvSpPr>
          <p:spPr>
            <a:xfrm>
              <a:off x="2516040" y="434808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ambria"/>
                  <a:ea typeface="黑体"/>
                </a:rPr>
                <a:t>4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Rectangle 51"/>
            <p:cNvSpPr/>
            <p:nvPr/>
          </p:nvSpPr>
          <p:spPr>
            <a:xfrm>
              <a:off x="3230640" y="321804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ambria"/>
                  <a:ea typeface="黑体"/>
                </a:rPr>
                <a:t>9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411120" y="696960"/>
            <a:ext cx="753120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我国哪类自然保护区最多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7"/>
          <p:cNvSpPr/>
          <p:nvPr/>
        </p:nvSpPr>
        <p:spPr>
          <a:xfrm>
            <a:off x="396720" y="2789280"/>
            <a:ext cx="78994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我国自然保护区的总数量是多少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51"/>
          <p:cNvSpPr/>
          <p:nvPr/>
        </p:nvSpPr>
        <p:spPr>
          <a:xfrm>
            <a:off x="631800" y="1549440"/>
            <a:ext cx="42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我国县级自然保护区最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51"/>
          <p:cNvSpPr/>
          <p:nvPr/>
        </p:nvSpPr>
        <p:spPr>
          <a:xfrm>
            <a:off x="719280" y="3706920"/>
            <a:ext cx="549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65+793+422+915=239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我国自然保护区的总数量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39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4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4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6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32"/>
          <p:cNvSpPr/>
          <p:nvPr/>
        </p:nvSpPr>
        <p:spPr>
          <a:xfrm>
            <a:off x="1424160" y="1162080"/>
            <a:ext cx="607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涂色表示统计图，每格表示几个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数据里有几个几，就把几格涂颜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观察分析表或图，解决问题不会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7T06:00:40Z</dcterms:created>
  <dc:creator/>
  <dc:description/>
  <dc:language>en-US</dc:language>
  <cp:lastModifiedBy>万润仪器贸易公司</cp:lastModifiedBy>
  <dcterms:modified xsi:type="dcterms:W3CDTF">2020-08-21T09:04:49Z</dcterms:modified>
  <cp:revision>2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